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8F6-56CC-41B8-969F-4792C04A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ADB-E126-463A-A255-C73EA39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0EE-7ED5-4E0E-A8E0-AFC8E27A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C66-F2A6-4A12-B9D9-399BC6F4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85C3-FC2F-4FEB-999C-13DDC5BA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037B-2835-44AB-BC51-BF76336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6429-D786-4B55-A99C-85463D0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4EA-3CA8-482B-AB07-6D217087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4127-6E28-4334-AB2D-14770B8A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EBB4-F05A-4179-94B0-B02E084F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723-2DA5-4036-8F75-6605E4E6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238-E49E-4B87-BF5B-9C4D330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9DF-2629-44BB-A69A-086CDEA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6933-0504-46BA-88FB-2927B57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D71-542B-4722-8B6B-776BA88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F2BC-103B-4C25-B356-E1EBB95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5E8D-7EDF-4121-831B-0DD4ED7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42A-9081-4842-B1CD-7BFA21E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F7C-5B74-42AE-8F28-91B22A07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C65-9A89-40CE-91EE-65193EA9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9B7-04BB-486E-9141-701C98E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6A7-6E94-46DE-9129-3EFFF81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45A-C982-4028-8BCF-1273BD34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8B6-21F1-4DE6-8686-3A5CC5D9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3737EE0-5FBC-469A-A712-0E4EE3F465F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2ADDF8-FBB7-46BC-9C5D-FE7E1DD88D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Superscalar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 have many advant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uses canonical pipeline stages for superscalar processor gene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 remains to be further investig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904E-C24C-4CB2-A001-118BF5A8EE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we can d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AA6-E6A6-4EC4-B666-F736F62CA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eterogeneous Multi-Core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ins multiple, differently-designed superscalar core types that can streamline the execution of diverse progr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re types differ from each other and target at different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uperscalar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tilizes instruction level parallelism. Executes more than one instruction during a clock-cyc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atch instructions to redundant functional units such as ALU, multiplier, bit shifter, etc on the process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chilles’ heel” of heterogeneous multi-core processor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ign and verification effort is multiplied by the number of different core types, which limits the amount of architectural diversity that can be practically implemen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09AE-1BBE-49E8-8019-9376B00A36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olset developed to automatically compose RTL designs of arbitrary cores within a canonical superscalar templa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ames superscalar processors in a canonical template which defines canonical pipeline stages and interfaces among th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anonical Pipeline Stage Library (CPSL) provides many implementations of each canonical pipeline stage that differs in their superscalar dimens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RTL generation tool uses the template and CPSL to automatically generate an overall core of desired configu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AFB-B6EE-49DD-9EEB-4DDDF00DB7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717000"/>
            <a:ext cx="82292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ipeline stages and interfaces are the same for all the superscalar processo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ch pipeline stage is composed from the Canonical Pipeline Stage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208720" cy="1809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D861-D7C8-4B1F-9F78-5A463E3EC5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4120" y="1219320"/>
            <a:ext cx="6575760" cy="49366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AFFE-EB61-4EB6-8774-8EF5DB42E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Mem: A Multiported RAM and CAM Compil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imates read/write delays, read/write energies, and areas of user-specified multi-port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tes layouts of desir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is tied to a specific technology (FreePDK45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RAM is 512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RAMs for only 2XR-XW and XR-XW configurations. The maximum number of read ports is 16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degree of column muxing in RAMs is limited to 1, 2, and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CAM is 256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CAMs for only XR-XW configurations. The maximum number of read ports is 8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B9A8-F995-4AFD-A8A8-006C32544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by FabScalar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9704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abMem to generate custom designs of critical memory structu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rse-grained floorplann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ttle consideration of power, area and performance issu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reePDK45, a 45nm based standard cell library, for logic synthesis and place-and-rou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0000" y="1556640"/>
            <a:ext cx="4409640" cy="435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E8F2-B9BE-4CAF-A083-FEA0E6439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Things We Can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or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path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design – comparison between FabMem and other memory comp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dence vs Synops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 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07DD-ABBF-48E7-AC25-7970FBA3A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682</TotalTime>
  <Application>LibreOffice/7.4.7.2$Linux_X86_64 LibreOffice_project/40$Build-2</Application>
  <AppVersion>15.0000</AppVersion>
  <Words>493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2-23T15:16:29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